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7F2-3E94-432A-AED5-66D221C8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136-E88D-4CE4-859D-2C37F9D0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CC1-1F96-4CEB-B37E-687968BA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64E-CD01-4EAF-A700-3902086E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4B9-86E9-4311-9D13-668E476B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F40-0C79-486A-BFF2-09E3AEBA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95F-031A-449C-820C-12CAF3F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939-4BBC-4576-A221-45D6BE6D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1E6-FE3C-4DA3-B3B8-5C7B2C0C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650-AB4E-478F-9CC6-7B7709C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A13-C9D2-4404-B33D-4EF1A0F5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5A8-D1C3-4A86-9B31-BBB5786C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31A9-43D8-4C5C-BB41-0FD550498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11/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me one thing you already know about Egypt.  On which continent is it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 N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 Sheets: Intro to Egy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fts of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dictable flood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it easier to plan out f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ck black mu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of nutrients for healthy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pyru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ype of plant that can be used for paper, baskets, sandals, even boa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sh, geese, ducks, plant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od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FTS OF THE M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ift_of_the_Nile.asf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on Uses of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The_Uses_of_the_Nile_in_Ancient_Egypt.asf" descr=""/>
          <p:cNvPicPr/>
          <p:nvPr/>
        </p:nvPicPr>
        <p:blipFill>
          <a:blip r:embed="rId1"/>
          <a:stretch/>
        </p:blipFill>
        <p:spPr>
          <a:xfrm>
            <a:off x="695160" y="1219320"/>
            <a:ext cx="80679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facts about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_____________, which are short stretches of rap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s at the Nile Delta, which is a triangle-shaped deposit of soil at the end…this is where the best farmland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le Del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250px-Nile_Delta_-_Naucratis.png"/>
          <p:cNvPicPr/>
          <p:nvPr/>
        </p:nvPicPr>
        <p:blipFill>
          <a:blip r:embed="rId1"/>
          <a:stretch/>
        </p:blipFill>
        <p:spPr>
          <a:xfrm>
            <a:off x="1676520" y="1263600"/>
            <a:ext cx="56386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 Was Divided in Ha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o Upper Egypt, and Lower Egy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mous Upper Egypt King, _________, united both places into one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383.jpg"/>
          <p:cNvPicPr/>
          <p:nvPr/>
        </p:nvPicPr>
        <p:blipFill>
          <a:blip r:embed="rId1"/>
          <a:stretch/>
        </p:blipFill>
        <p:spPr>
          <a:xfrm>
            <a:off x="6248520" y="3962520"/>
            <a:ext cx="188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es Unites Egy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hraoah_Menes_Unites_Egypt.asf" descr=""/>
          <p:cNvPicPr/>
          <p:nvPr/>
        </p:nvPicPr>
        <p:blipFill>
          <a:blip r:embed="rId1"/>
          <a:stretch/>
        </p:blipFill>
        <p:spPr>
          <a:xfrm>
            <a:off x="1371600" y="14619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Egypt Was More Peaceful Than Mesopota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together was important to surv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ne united nation made more s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 on having the pharaoh as their one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: The World’s First United 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The_Birth_of_a_Nation.asf" descr=""/>
          <p:cNvPicPr/>
          <p:nvPr/>
        </p:nvPicPr>
        <p:blipFill>
          <a:blip r:embed="rId1"/>
          <a:stretch/>
        </p:blipFill>
        <p:spPr>
          <a:xfrm>
            <a:off x="1254240" y="1600200"/>
            <a:ext cx="70516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happened to Men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ten by a Hippo while on a hunting tr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 takes over, followed by his so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egan the world’s firs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ian 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f in the after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ves in many gods (polythe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ve that the body needs to be preserved as a house for the so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 worshipped kings as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ian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d a system called HIEROGLYP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orial symbols stand for words or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up of over 700 different symb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Hieroglyphics.asf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39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11/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why Egyptians were happy with being a united nation under one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 Sheets 11/18:  No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out vocab list, have in front of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 None. Bring colored pencils to class tomor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located in 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ypt’s lifeline is the ____________; without it, Egypt would have never been able to surv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egypt-political-map.jpg"/>
          <p:cNvPicPr/>
          <p:nvPr/>
        </p:nvPicPr>
        <p:blipFill>
          <a:blip r:embed="rId1"/>
          <a:stretch/>
        </p:blipFill>
        <p:spPr>
          <a:xfrm>
            <a:off x="1371600" y="1263600"/>
            <a:ext cx="65530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le River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est river in the world: 4, 000 m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s from_____________to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ngth of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The_Path_of_the_Nile__.asf" descr=""/>
          <p:cNvPicPr/>
          <p:nvPr/>
        </p:nvPicPr>
        <p:blipFill>
          <a:blip r:embed="rId1"/>
          <a:stretch/>
        </p:blipFill>
        <p:spPr>
          <a:xfrm>
            <a:off x="946080" y="1143000"/>
            <a:ext cx="74358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h of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he_Path_of_the_Nile__.asf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75373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he_Nile__Where_Egypt_Began.asf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28:38Z</dcterms:created>
  <dc:creator>tech</dc:creator>
  <dc:description/>
  <dc:language>en-US</dc:language>
  <cp:lastModifiedBy>tech</cp:lastModifiedBy>
  <dcterms:modified xsi:type="dcterms:W3CDTF">2011-11-07T19:24:58Z</dcterms:modified>
  <cp:revision>135</cp:revision>
  <dc:subject/>
  <dc:title>Slide 1</dc:title>
</cp:coreProperties>
</file>